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9.wmf" ContentType="image/x-wmf"/>
  <Override PartName="/ppt/media/image6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7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6F5-A491-46EA-A290-80A4500B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C3D-031D-4E9F-9EC1-CCA16BFC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D68-00FD-46B3-A54B-44102C11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7FA8-ED8D-4268-91F4-B103050B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72C3-EE3F-413E-8442-3F7259C6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ECB7-6288-4686-8F58-5D4379E5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0934-6BA4-4343-8137-431CAF0D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C6EA-E3BC-4F0A-8B60-06CC1AB0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6357-B104-4764-A60A-C60F4BF0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8B31-2076-4B4D-AE47-95C844C6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7AAB-1E92-491E-B774-E0C539F5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387-86F6-407C-AF5A-D5F4B985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DAE7-954B-4472-B722-A90E997C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ABA7-4C2C-4EE6-8BF9-CC998CFC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644D-98BC-41E6-A537-17A440B6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A069-E6B9-4549-993C-7787879E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AC0B-9707-43DF-BFA9-6ED2A92A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5BDC50-3592-47D6-9547-299169D4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62EAAA-A56C-4622-BEEB-9417A462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2E97E9-6F91-476E-A39D-40A6A438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071E05-4A52-44D3-8211-E4E14BB8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D06B40-A406-427D-85A7-0131165F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FFFD-B05C-4EB0-808C-618AD70C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E2769E-3064-4711-AB54-105C488F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D3E470-4064-4E35-9633-2D020B95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80CDEA-31EF-4DA8-A926-AC8A71F7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DBCE6E-70CC-4BD2-A092-59DA5179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398769-BA1B-4D4D-A030-A880FD51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147DEC-5597-4628-B5AF-623E01E2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8B997B-4C70-41B0-A9D2-E3759D9D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11D70-3FFE-47C9-B71F-637637DB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01E08-A983-4654-BF02-37A90A98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908DA-7838-428C-B18F-4AFD55B9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EA4-9472-485C-86A2-D85F7EF8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B0921-C6EB-442F-A60E-887EF55C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0B52E-A95C-4ED2-AC68-E55C8283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4B71C-AD5D-4981-A250-EE6019E5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CD17A-43EB-4A33-9E8A-7A487DC1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403B5-602B-4910-AD05-FBD428A9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502C4-2666-41B0-A082-7DFE0D50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D5EF9-C04A-4523-BBB0-B60615D4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03A31-20CC-41A5-B243-05D57A99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0E31E-2E7D-4484-B932-E44478A8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6BBC54-FB51-4234-9645-78C79D32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E73-6EF1-48C9-B09D-C1E373AB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1355BB-FAB8-4947-A90A-75CE1611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75C9D6-820F-422E-9D20-41CB8CAD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49D498-B128-40BA-B10D-7D375F81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9C9E6D-C7C4-4297-890A-84F3A6DC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721C7D-C430-47AB-A543-431480BC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A64D21-7904-4A4A-9878-014304C3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BE36AE-61CD-49FA-9503-0D12257A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9CF26D-2469-4D14-AFA3-1CD8A8B2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C71CAB-0EE1-4494-B407-4BCC19E0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922679-5D9A-4432-B6FF-3680E3A9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87E-6969-40A9-B665-C59955CD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9364CC-A686-44F8-928D-75D7DBEB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E0925C-839A-4BB1-8067-774997A4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B36FCF-7894-440D-8680-25E3B778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29FA79-DBCE-41B0-8A29-8D879A51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9ADE60-7C73-4B4D-9EB3-53874F37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39C800-08A6-455C-A8FF-5E69A3C1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29EDB8-3BF1-45A4-988F-206758A9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25413B-7F4A-426B-B42C-AC5927B2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2D4563-62AA-4E54-89A2-62F7D749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4A9119-771C-4593-B8AA-3CC10345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B55-3844-48CB-9FE4-F7DB7D59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1B9D9E-4A39-4D8C-B241-07FCD9E6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A83080-7BCA-4245-8F6D-541F6001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59534F-B494-4F06-98D5-DF33F8D8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0CB04-6C0A-4BDF-B9E7-848F4686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D5E4E-0A1F-4EFA-BBD2-437AC014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B929F-B836-4BB8-BD0F-213ACF26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940B7-6178-4E43-BAAA-48FE2343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BE518-F9BB-4114-B50C-644AC39F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A2321-5A39-4758-8577-63EAE757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4D076-AA29-4BC4-BAC8-58D25594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80E-2465-4D3B-A415-F738A402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BA207-2F20-47FD-8C9E-B9838815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40026-579E-47CD-9F17-710ADF22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536CC-0996-42DA-A4A5-B0580B2D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BA42D-BE4A-4459-9BCF-5307EA34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1DF3C-3E37-4C9D-A662-762F5A06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76B84-EA74-4764-B8C9-C64496F7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55E9A-8F19-4CBF-9870-E8A4D2C5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3D418-C4CA-4707-875A-6A6C5B62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3273D-67DC-47C2-B490-35B21869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51218-198A-4A12-B327-16F7AD98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2DC-40F8-4FC7-A470-B47704C0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0D428-EB59-4245-8EBD-4EF1E243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55EAB-1533-4D22-BABA-AEE29FB0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E096D-E66A-4453-862A-4BE74839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CDE40-E9F9-4DC1-8508-569B6EEE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22659-B2D1-4B6B-8B57-EBF298E9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1E19B-3370-45D0-951B-E6E28133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38411-830A-45B4-812C-CDAB0DC0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525252">
                  <a:alpha val="0"/>
                </a:srgbClr>
              </a:gs>
              <a:gs pos="100000">
                <a:srgbClr val="b2b2b2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163080" y="-7920"/>
            <a:ext cx="1440" cy="687060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213600" y="-7920"/>
            <a:ext cx="2730240" cy="6870600"/>
          </a:xfrm>
          <a:custGeom>
            <a:avLst/>
            <a:gdLst/>
            <a:ahLst/>
            <a:rect l="l" t="t" r="r" b="b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ed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564240" y="-7920"/>
            <a:ext cx="2598840" cy="6870600"/>
          </a:xfrm>
          <a:custGeom>
            <a:avLst/>
            <a:gdLst/>
            <a:ahLst/>
            <a:rect l="l" t="t" r="r" b="b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/>
            <a:ahLst/>
            <a:rect l="l" t="t" r="r" b="b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/>
            <a:ahLst/>
            <a:rect l="l" t="t" r="r" b="b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/>
            <a:ahLst/>
            <a:rect l="l" t="t" r="r" b="b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/>
            <a:ahLst/>
            <a:rect l="l" t="t" r="r" b="b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/>
            <a:ahLst/>
            <a:rect l="l" t="t" r="r" b="b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/>
            <a:ahLst/>
            <a:rect l="l" t="t" r="r" b="b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/>
            <a:ahLst/>
            <a:rect l="l" t="t" r="r" b="b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1100160" y="5754600"/>
            <a:ext cx="504720" cy="486000"/>
          </a:xfrm>
          <a:custGeom>
            <a:avLst/>
            <a:gdLst/>
            <a:ahLst/>
            <a:rect l="l" t="t" r="r" b="b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solidFill>
            <a:srgbClr val="aeaeae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127080" y="5180040"/>
            <a:ext cx="796680" cy="763560"/>
          </a:xfrm>
          <a:custGeom>
            <a:avLst/>
            <a:gdLst/>
            <a:ahLst/>
            <a:rect l="l" t="t" r="r" b="b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solidFill>
            <a:srgbClr val="babab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-20520" y="5340240"/>
            <a:ext cx="2334960" cy="1544760"/>
          </a:xfrm>
          <a:custGeom>
            <a:avLst/>
            <a:gdLst/>
            <a:ahLst/>
            <a:rect l="l" t="t" r="r" b="b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96969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564240" y="-7920"/>
            <a:ext cx="2598840" cy="6875280"/>
          </a:xfrm>
          <a:prstGeom prst="rect">
            <a:avLst/>
          </a:prstGeom>
          <a:ln w="0">
            <a:noFill/>
          </a:ln>
        </p:spPr>
      </p:pic>
      <p:pic>
        <p:nvPicPr>
          <p:cNvPr id="22" name="" descr="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5857920" y="-19080"/>
            <a:ext cx="2895480" cy="6886440"/>
          </a:xfrm>
          <a:prstGeom prst="rect">
            <a:avLst/>
          </a:prstGeom>
          <a:ln w="0">
            <a:noFill/>
          </a:ln>
        </p:spPr>
      </p:pic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2440" y="188640"/>
            <a:ext cx="70722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ftr" idx="1"/>
          </p:nvPr>
        </p:nvSpPr>
        <p:spPr>
          <a:xfrm>
            <a:off x="2484000" y="6472080"/>
            <a:ext cx="352764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/>
            <a:ahLst/>
            <a:rect l="l" t="t" r="r" b="b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781280" y="6391440"/>
            <a:ext cx="357120" cy="339480"/>
          </a:xfrm>
          <a:custGeom>
            <a:avLst/>
            <a:gdLst/>
            <a:ahLst/>
            <a:rect l="l" t="t" r="r" b="b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solidFill>
            <a:srgbClr val="a7a7a7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5861160" y="-7920"/>
            <a:ext cx="3044880" cy="6870600"/>
          </a:xfrm>
          <a:custGeom>
            <a:avLst/>
            <a:gdLst/>
            <a:ahLst/>
            <a:rect l="l" t="t" r="r" b="b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body"/>
          </p:nvPr>
        </p:nvSpPr>
        <p:spPr>
          <a:xfrm>
            <a:off x="187200" y="1006200"/>
            <a:ext cx="8337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dt" idx="2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01c1e"/>
              </a:gs>
              <a:gs pos="100000">
                <a:srgbClr val="7d0f1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100000">
                <a:srgbClr val="ffffff">
                  <a:alpha val="13333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>
            <a:lum bright="-42000"/>
          </a:blip>
          <a:srcRect l="28292" t="0" r="30589" b="0"/>
          <a:stretch/>
        </p:blipFill>
        <p:spPr>
          <a:xfrm>
            <a:off x="5376960" y="-19080"/>
            <a:ext cx="3779640" cy="6896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63080" y="-7920"/>
            <a:ext cx="1440" cy="687060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3600" y="-7920"/>
            <a:ext cx="2730240" cy="6870600"/>
          </a:xfrm>
          <a:custGeom>
            <a:avLst/>
            <a:gdLst/>
            <a:ahLst/>
            <a:rect l="l" t="t" r="r" b="b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ed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64240" y="-7920"/>
            <a:ext cx="2598840" cy="6870600"/>
          </a:xfrm>
          <a:custGeom>
            <a:avLst/>
            <a:gdLst/>
            <a:ahLst/>
            <a:rect l="l" t="t" r="r" b="b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/>
            <a:ahLst/>
            <a:rect l="l" t="t" r="r" b="b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/>
            <a:ahLst/>
            <a:rect l="l" t="t" r="r" b="b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/>
            <a:ahLst/>
            <a:rect l="l" t="t" r="r" b="b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/>
            <a:ahLst/>
            <a:rect l="l" t="t" r="r" b="b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/>
            <a:ahLst/>
            <a:rect l="l" t="t" r="r" b="b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/>
            <a:ahLst/>
            <a:rect l="l" t="t" r="r" b="b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/>
            <a:ahLst/>
            <a:rect l="l" t="t" r="r" b="b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00160" y="5754600"/>
            <a:ext cx="504720" cy="486000"/>
          </a:xfrm>
          <a:custGeom>
            <a:avLst/>
            <a:gdLst/>
            <a:ahLst/>
            <a:rect l="l" t="t" r="r" b="b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7080" y="5180040"/>
            <a:ext cx="796680" cy="763560"/>
          </a:xfrm>
          <a:custGeom>
            <a:avLst/>
            <a:gdLst/>
            <a:ahLst/>
            <a:rect l="l" t="t" r="r" b="b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20520" y="5340240"/>
            <a:ext cx="2334960" cy="1544760"/>
          </a:xfrm>
          <a:custGeom>
            <a:avLst/>
            <a:gdLst/>
            <a:ahLst/>
            <a:rect l="l" t="t" r="r" b="b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6564240" y="-7920"/>
            <a:ext cx="2598840" cy="6875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5857920" y="-19080"/>
            <a:ext cx="2895480" cy="6886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4"/>
          </p:nvPr>
        </p:nvSpPr>
        <p:spPr>
          <a:xfrm>
            <a:off x="2484000" y="6472080"/>
            <a:ext cx="352764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/>
            <a:ahLst/>
            <a:rect l="l" t="t" r="r" b="b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81280" y="6391440"/>
            <a:ext cx="357120" cy="339480"/>
          </a:xfrm>
          <a:custGeom>
            <a:avLst/>
            <a:gdLst/>
            <a:ahLst/>
            <a:rect l="l" t="t" r="r" b="b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1160" y="-7920"/>
            <a:ext cx="3044880" cy="6870600"/>
          </a:xfrm>
          <a:custGeom>
            <a:avLst/>
            <a:gdLst/>
            <a:ahLst/>
            <a:rect l="l" t="t" r="r" b="b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5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245880" y="712440"/>
            <a:ext cx="86914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Num" idx="7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FAA2-C225-4908-BA69-FAF22854BB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title"/>
          </p:nvPr>
        </p:nvSpPr>
        <p:spPr>
          <a:xfrm>
            <a:off x="23400" y="25992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03360" y="1320480"/>
            <a:ext cx="613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bdf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bdf5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0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1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2"/>
          </p:nvPr>
        </p:nvSpPr>
        <p:spPr>
          <a:xfrm>
            <a:off x="7885080" y="6244920"/>
            <a:ext cx="1106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B59B-297E-41CE-88FA-BB826A517FF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90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245880" y="1341000"/>
            <a:ext cx="869148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ldNum" idx="13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3889-4C5F-4B07-AEF2-BAA1ED65F6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4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5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title"/>
          </p:nvPr>
        </p:nvSpPr>
        <p:spPr>
          <a:xfrm>
            <a:off x="23400" y="25992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212400" y="712440"/>
            <a:ext cx="86914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ldNum" idx="16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5ED3-1132-42E3-A0EE-24F1995096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title"/>
          </p:nvPr>
        </p:nvSpPr>
        <p:spPr>
          <a:xfrm>
            <a:off x="23400" y="3780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9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9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20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1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5D68-A014-4758-A054-C5698B09EC3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1"/>
          <a:stretch/>
        </p:blipFill>
        <p:spPr>
          <a:xfrm>
            <a:off x="66600" y="189000"/>
            <a:ext cx="9010800" cy="6285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5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2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23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4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F4CF-490B-484A-9CDF-873F07FF9D3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33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1258920" y="1268280"/>
            <a:ext cx="7443720" cy="5281920"/>
            <a:chOff x="1258920" y="1268280"/>
            <a:chExt cx="7443720" cy="5281920"/>
          </a:xfrm>
        </p:grpSpPr>
        <p:sp>
          <p:nvSpPr>
            <p:cNvPr id="393" name=""/>
            <p:cNvSpPr txBox="1"/>
            <p:nvPr/>
          </p:nvSpPr>
          <p:spPr>
            <a:xfrm>
              <a:off x="1258920" y="1268280"/>
              <a:ext cx="6624720" cy="165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生的食物和熟的食物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6010200" y="6165720"/>
              <a:ext cx="2692440" cy="38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幼圆"/>
                </a:rPr>
                <a:t>整理者：浙江省建德市新安江第一小学 秦爱军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  <a:ea typeface="幼圆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11280" y="2205000"/>
            <a:ext cx="7416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、仔细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看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及时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记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适时取出玉米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、要用灯帽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盖灭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酒精灯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</a:rPr>
              <a:t>不要碰到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铁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00000" y="90792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实验提示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539640" y="189000"/>
            <a:ext cx="273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考考你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2" name=""/>
          <p:cNvSpPr/>
          <p:nvPr/>
        </p:nvSpPr>
        <p:spPr>
          <a:xfrm>
            <a:off x="4643280" y="836640"/>
            <a:ext cx="249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判断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349360"/>
            <a:ext cx="8713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为了保证人体对营养的吸收，有的食物适宜生吃，有的食物适宜熟吃。（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高温加热会破坏食物中的营养成分，所以食物应该以生吃为主。（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蛋白质和脂肪加热后，变得容易被人体消化和吸收。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生吃食物和熟吃食物各有优势和不足。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6320" y="175680"/>
            <a:ext cx="18496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4000" y="105264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食物中的（            ）和（        ）在加热后会发生变化，变得容易被人体（        ）和（         ），而且熟的食物比较松软，也容易被消化。但是食物在这样的加工过程中，营养会有一些损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生的食物会保留自身的营养成分，特别是（        ）不会被破坏。所以采用生食的方法能够减少营养的损失，但是生吃食物一定要注意（    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11280" y="0"/>
            <a:ext cx="6624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与实验，你有什么收获？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6288120" y="3716280"/>
            <a:ext cx="2855880" cy="3141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0" y="3384720"/>
            <a:ext cx="4643280" cy="34732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343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rcRect l="30273" t="46794" r="32738" b="17901"/>
          <a:stretch/>
        </p:blipFill>
        <p:spPr>
          <a:xfrm>
            <a:off x="0" y="3716280"/>
            <a:ext cx="4284720" cy="31417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5076720" y="3670200"/>
            <a:ext cx="4067280" cy="31878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248000" cy="3332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rcRect l="13000" t="15335" r="13000" b="15335"/>
          <a:stretch/>
        </p:blipFill>
        <p:spPr>
          <a:xfrm>
            <a:off x="0" y="0"/>
            <a:ext cx="4476600" cy="34574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rcRect l="1760" t="3748" r="4438" b="8756"/>
          <a:stretch/>
        </p:blipFill>
        <p:spPr>
          <a:xfrm>
            <a:off x="0" y="3443400"/>
            <a:ext cx="4495680" cy="34146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4495680" y="3465360"/>
            <a:ext cx="4648320" cy="33926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rcRect l="17215" t="21181" r="20227" b="16929"/>
          <a:stretch/>
        </p:blipFill>
        <p:spPr>
          <a:xfrm>
            <a:off x="4467240" y="0"/>
            <a:ext cx="4676760" cy="34686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209680" y="2286000"/>
            <a:ext cx="62485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哪些是生吃的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哪些是熟吃的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179280" y="1773360"/>
          <a:ext cx="8496360" cy="3527280"/>
        </p:xfrm>
        <a:graphic>
          <a:graphicData uri="http://schemas.openxmlformats.org/drawingml/2006/table">
            <a:tbl>
              <a:tblPr/>
              <a:tblGrid>
                <a:gridCol w="1825560"/>
                <a:gridCol w="3287880"/>
                <a:gridCol w="3382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生的马铃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     </a:t>
                      </a: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熟的马铃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软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气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  <p:sp>
        <p:nvSpPr>
          <p:cNvPr id="409" name=""/>
          <p:cNvSpPr txBox="1"/>
          <p:nvPr/>
        </p:nvSpPr>
        <p:spPr>
          <a:xfrm>
            <a:off x="468360" y="47628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与生的马铃薯比较，熟的马铃薯有哪些变化？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观察比较生、熟马铃薯</a:t>
            </a:r>
            <a:br>
              <a:rPr sz="2800"/>
            </a:b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实验注意事项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58560" y="206064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充分利用你们的感官去观察，比如通过看、闻、尝、摸等方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使用小刀时一定要注意安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四人小组互相合作，边观察边记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实验完成后整理好实验器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68360" y="184464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马铃薯中含有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</a:rPr>
              <a:t>龙葵素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它是一种对人体有害的生物碱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平时马铃薯中含量极微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一旦马铃薯发芽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芽眼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芽根和变绿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溃烂的地方龙葵素的含量急剧增高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可高出平时含量的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70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倍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人吃了这种发芽的马铃薯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轻者恶心呕吐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腹痛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腹泻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重者可出现脱水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血压下降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呼吸困难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昏迷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抽搐等现象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</a:rPr>
              <a:t>严重者还可因心肺麻痹而死亡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268360" y="620640"/>
            <a:ext cx="504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发芽的马铃薯为什么不宜吃？</a:t>
            </a:r>
            <a:endParaRPr b="0" lang="en-US" sz="2400" spc="1" strike="noStrike">
              <a:ln w="0">
                <a:noFill/>
              </a:ln>
              <a:solidFill>
                <a:srgbClr val="ff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24000" y="333360"/>
            <a:ext cx="158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资料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603600" y="936720"/>
            <a:ext cx="5540400" cy="5921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24000" y="0"/>
            <a:ext cx="338436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烧烤玉米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1332000" y="981000"/>
          <a:ext cx="6624720" cy="3384720"/>
        </p:xfrm>
        <a:graphic>
          <a:graphicData uri="http://schemas.openxmlformats.org/drawingml/2006/table">
            <a:tbl>
              <a:tblPr/>
              <a:tblGrid>
                <a:gridCol w="1422360"/>
                <a:gridCol w="5202360"/>
              </a:tblGrid>
              <a:tr h="109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方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记录玉米粒到玉米花的变化过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爆玉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1835280" y="2602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从玉米粒到玉米花记录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3:07:09Z</dcterms:created>
  <dc:creator>xlzx</dc:creator>
  <dc:description/>
  <dc:language>en-US</dc:language>
  <cp:lastModifiedBy>微软用户</cp:lastModifiedBy>
  <dcterms:modified xsi:type="dcterms:W3CDTF">2010-02-19T10:22:12Z</dcterms:modified>
  <cp:revision>46</cp:revision>
  <dc:subject/>
  <dc:title>《生的食物和熟的食物》</dc:title>
</cp:coreProperties>
</file>